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0509-25FE-41FC-BF13-965E3BC9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9FF0-9A67-471C-A59F-FAFC63C7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5DA1-1678-4816-B962-7ACE4121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0B88-F131-4B30-B742-323EBE8A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DD76-FC40-45E0-A419-2DCF2F89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CE69-1865-4F71-B900-7DF75760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4A49-6BE3-457F-BE48-A0DE9B40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E59F-3491-45B1-BB54-7F3255B4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2158-C78D-4DA5-972D-ACC298FC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C4DA-639E-4A94-8E63-6FCDD853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0F9B-6164-4BC0-B606-7F92A568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1107-D7A0-456C-8483-9D7B5A64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9302-CE4D-4EEC-977A-4C672942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C429-003E-41E3-95B8-580FB054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B382-5719-416D-A4C1-D16421F4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37EA-DC1F-46C9-AB5E-479DD1AC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58CC-5E75-4F40-9C9E-54F18484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9B3E-65B1-4EFE-9C1F-B5921B82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4102-513F-463C-95D1-37533274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2965-8219-41BE-9D63-9366DE2A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8A5-96EA-4F86-B10A-916F7DBA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1FBD-DBBA-4DAB-B2DE-7AB859B1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1F39-917A-4063-B78D-C198140B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2204-6C3B-4607-9063-EA11DF83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BBC1-4755-4F25-91AC-552444E2BBC3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29EA-F804-4373-BDB4-40429021BC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1382-ABDF-4F4B-935C-C0395E1F1302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E8ED-E105-4F89-87F7-E930A4C4C5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9112-BB63-41BD-979C-AF279F2742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86800" cy="17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c0000"/>
                </a:solidFill>
                <a:latin typeface="黑体"/>
                <a:ea typeface="黑体"/>
              </a:rPr>
              <a:t>第十二章  消费者的品牌心理与行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332000" y="2565360"/>
            <a:ext cx="66960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 品牌的内涵与构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  品牌心理的形成机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  消费者的品牌购买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 增强消费者的品牌偏好与忠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1AEB-49AC-4FB0-989E-1BD3C1107C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心理作用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6000" y="1413000"/>
            <a:ext cx="7570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认知过程是指消费者认识、了解、确信并接受品牌的过程，是品牌发生作用的心理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内容占位符 2"/>
          <p:cNvSpPr/>
          <p:nvPr/>
        </p:nvSpPr>
        <p:spPr>
          <a:xfrm>
            <a:off x="4356000" y="981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63928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品牌的心理效应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差异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光环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魅力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附加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692000" y="1719360"/>
            <a:ext cx="6994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在消费者购买行为中的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品牌转换行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86F9-69BC-4FAE-87B0-398DB06DF2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标题 1"/>
          <p:cNvSpPr/>
          <p:nvPr/>
        </p:nvSpPr>
        <p:spPr>
          <a:xfrm>
            <a:off x="179280" y="260280"/>
            <a:ext cx="84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 消费者的品牌购买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在消费者购买行为中的作用</a:t>
            </a:r>
            <a:br>
              <a:rPr sz="36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3280" y="2133360"/>
            <a:ext cx="7283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寻找解决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评价比较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购后评价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348F-C628-4C89-823B-D965F540F9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543800" cy="13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品牌转换行为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3496-0E0D-4EA5-B1A3-4064E5B908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71640" y="1341000"/>
            <a:ext cx="7726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消费者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卷入程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产品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特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企业营销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市场竞争结构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8209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 增强消费者的品牌偏好与忠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忠诚的概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忠诚形成的心理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增强消费者品牌忠诚的措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EBBA-FD33-431B-888E-0CF058EDEF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44F4-ED38-471D-8B0B-56D0FA1DA9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忠诚的概念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behavior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attitudin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忠诚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非随机的，有倾向性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具有行为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较长时间内持续表现出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经过某些决策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某品牌集合中的一个或多个特定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决策、评价等心理过程的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9609-7A9F-4FB8-9062-37993181E7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82172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忠诚形成的心理机制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116000" y="1989000"/>
            <a:ext cx="1657440" cy="71928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73" y="0"/>
                </a:lnTo>
                <a:lnTo>
                  <a:pt x="21600" y="10800"/>
                </a:lnTo>
                <a:lnTo>
                  <a:pt x="138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认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132000" y="1987560"/>
            <a:ext cx="1656000" cy="7207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43" y="0"/>
                </a:lnTo>
                <a:lnTo>
                  <a:pt x="21600" y="10800"/>
                </a:lnTo>
                <a:lnTo>
                  <a:pt x="14843" y="21600"/>
                </a:lnTo>
                <a:lnTo>
                  <a:pt x="0" y="21600"/>
                </a:lnTo>
                <a:lnTo>
                  <a:pt x="675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态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292720" y="2060640"/>
            <a:ext cx="1368360" cy="720720"/>
          </a:xfrm>
          <a:prstGeom prst="flowChart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行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403280" y="3357720"/>
            <a:ext cx="5400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0BC1-DAC1-4F34-BFD9-BECE234B73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547640" y="2276640"/>
            <a:ext cx="722160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化消费者的品牌意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升产品与服务品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构建品牌信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善用品牌联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高品牌转换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-360" y="765000"/>
            <a:ext cx="8001000" cy="12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增强消费者品牌忠诚的措施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 品牌的内涵与构成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定义及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9CD6-3197-4E0F-9BF1-DDA9C10B1B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2560" y="1915920"/>
            <a:ext cx="76438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2529-1FA5-4B4A-AB7C-5D249C5BC0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7F1C-A1AD-4CA8-936E-30593C9769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标识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资产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号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符号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是人类消费发展的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物质载体是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内容是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对象是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AB9F-846F-4C3F-9CD9-98D9BFBE1E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显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性要素是品牌展现在外的、具体的，消费者可以直接感知的成份，主要指品牌及其所标定产品的名称、标识、包装设计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名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视觉标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7575-18DD-4045-9B2B-FDCCCA5017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隐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中不能被直接触摸和感觉到的就被称为品牌的隐性要素，它是 存在于品牌整个形成过程的核心要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承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体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 品牌心理的形成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835280" y="1719360"/>
            <a:ext cx="685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心理作用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心理作用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品牌的心理效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8CF3-5835-4DE8-B53E-E1EBA7276B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FC48-6A67-43C6-9BCD-5368DF9D0A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476280"/>
            <a:ext cx="75438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心理作用基础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                                                                                    </a:t>
            </a:r>
            <a:br>
              <a:rPr sz="36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63640" y="1700280"/>
            <a:ext cx="6716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象征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个性的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价值的实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924360" y="1197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8:20:57Z</dcterms:created>
  <dc:creator>jianglin</dc:creator>
  <dc:description/>
  <dc:language>en-US</dc:language>
  <cp:lastModifiedBy>Administrator</cp:lastModifiedBy>
  <dcterms:modified xsi:type="dcterms:W3CDTF">2015-09-03T09:22:45Z</dcterms:modified>
  <cp:revision>114</cp:revision>
  <dc:subject/>
  <dc:title>PowerPoint 演示文稿</dc:title>
</cp:coreProperties>
</file>