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C1D7-7AED-477B-A04D-B37EACF0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8C15-3C0A-4243-AE9B-93E14883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4F00-01C3-4CD1-B9E3-7BFC7631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F224-ABEE-4F5B-8BB2-27433166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BD22-3934-4129-ACE9-820DD272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6A74-A6D9-49E5-8AAF-A574DAC5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2179-6D05-4B2F-93C6-57CC8767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5302-4413-4DB8-BCFE-AC8DC130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7CF0-893B-4550-AAAC-96B9D58A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B2D9-1CCD-4C5A-871B-9923397E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1507-3A72-4E46-8F65-28E81252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BFA-3B9B-49D7-B874-7EF7FD97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C325-2FF7-44C9-8D15-2D07CD34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0A63-060D-4F4A-9E8F-08619B67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682C-4833-44A6-8F5F-A407DB58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298E-184C-487D-B17A-193B0ECB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A8BB-1450-4422-A918-CB2259B2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71C-AC44-4345-8845-8A99A5ED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4ABB-A0F8-4104-BB69-9555B525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80DB-3621-4B97-BA7F-EB5259E9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2006-093E-40F9-BA58-74C669BF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CC3E-E882-457A-A8BB-D54D83E2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94AE-8C9B-4956-BEC5-95B48FBD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1ED-4CB7-4D15-A05A-C0E95A5D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20A0-F04B-4630-BED5-552F8C440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A263-9656-486B-BA43-34AE148B15F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章   保险市场管理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公司的组织结构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国有独资保险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股份有限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东大会、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保险公司的主要职能部门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市场营销部、精算部 、承保部、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部、理赔部、投资部、财务部等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三节  保险市场供需分析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市场的供给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供给是指在一定价格（保险费率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水平上，保险市场上各家保险公司愿意并且能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够提供的保险商品的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费率、偿付能力、保险技术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的规范程度、政府的监管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市场的需求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需求是指在一定的保险费率水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上，保险消费者从保险市场上愿意并有能力购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保险商品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风险状况、保险费率、国内生产总值和消费者的货币收入、互补商品与替代商品价格、人口状况、文化传统、经济和法律制度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市场的供求平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供求平衡，是指在一定保险费率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下，保险供给恰好等于保险需求的状态，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供给与需求达到均衡点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保险市场机制的运行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价值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价值规律是商品生产和商品交换的基本经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律，它的主要内容是：商品的价值量是由生产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商品的社会必要劳动时间决定的，在市场上，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品按照价值量进行等价交换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供求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供求规律表现为供给与需求之间的关系，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过对供需双方力量的调节达到市场均衡，从而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定市场的均衡价格，即供求状况决定商品的价格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竞争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是由商品内在的使用价值和价值的矛盾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的。但是保险中的竞争也受到一定的限制，主要是非价格竞争，如保险产品竞争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、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服务竞争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一节   保险市场的特点与构成要素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五节  保险市场的监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 、保险监管的必要性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营的公共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同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技术的复杂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交易过程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 、保险监管的目标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公司的偿付能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维护保险市场的正常秩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合同的公平和公正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防止保险欺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监管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告监管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范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体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保险监管体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法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机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行业协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信用评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保险监管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市场行为的监督管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机构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业务的监督管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财务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公司治理及内控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六、保险监管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非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国营保险  保险股份有限公司   相互保险公司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公司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国有独资保险公司的特点和组织结构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股份制保险公司和相互保险公司的特点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影响保险供给和需求的主要因素以及保险市场机制的特殊作用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监管的必要性和目标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列举保险监管的主要内容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特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对象与风险直接相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是一种特殊的“期货”交易市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市场是非即时清洁市场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市场的构成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主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的客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二节  保险市场的组织形式与组织结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组织形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国营保险组织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国营保险组织是由国家或政府投资设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保险经营组织，如国有独资保险公司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私营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私营保险组织是指由私人投资设立的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险经营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份有限公司和相互保险公司是两种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型的私营保险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合作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是由一些具有相同保险需求的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组织起来、共同经营的相互保险组织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相互保险社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自保组织是由某一行业或公司为本公司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本系统提供保险保障的组织形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五）个人保险组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保险组织是以自然人的名义承保风险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的一种组织形式。迄今为止，英国的劳合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是当今世界唯一的一家个人保险组织。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12:02Z</dcterms:modified>
  <cp:revision>24</cp:revision>
  <dc:subject/>
  <dc:title>没有幻灯片标题</dc:title>
</cp:coreProperties>
</file>