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A994-A514-428C-81A6-1F35CE70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283E-84C4-4B3E-AF9F-FA7C7342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636-2FF6-44A5-9667-E3A04067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6C6-ACDA-4B2E-A199-5771D1DF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AA20-71AE-46D2-939C-FF12BA09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1E0C-416D-4303-9A9E-9327DAF2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793A-6B8D-4873-B9EC-823E1498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4629-32DE-45A6-970C-12E9C008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3CFC-1DEF-434B-957B-EB7817C6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BE30-FF32-4B81-BB30-C00FDA00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BB42-C08A-4526-B5E3-1D826681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CB4B-10C2-4DF9-AE22-8A5160B6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EC1A-5F61-44BB-A61C-B0A6B48B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6757-3CA8-4DAA-B417-BA0BC575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5AEC-ADDF-402E-8E97-D7BC4823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E2A1-34E6-4389-8481-66A8E307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4510-9DEE-4D5A-8CD6-31EBB8D2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3AE1-2970-45D0-85FC-2878A31D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E25-2B8A-444C-ACFC-00A987DC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389F-B217-46F2-AD9E-002D5A2F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C62-66AB-4DE1-A24B-B246D7E4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6BF4-2B8F-4BD8-9206-344A3306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CF34-F8CA-498A-9861-15BE5A30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C1C-D53D-43D5-8CE0-0DA5F98C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E60E-1C04-4623-B19A-9ABBCA10E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B14F-4FD6-417D-9EEE-47AC96B8C2A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十一章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管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事考核的方法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物比较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素分析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量考核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综合考评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考试评议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三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培训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员工培训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战略性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以致用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人施教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内容结构合理化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员工教育培训的内容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技术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高级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员工培训的方法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务转换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研究讨论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职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校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四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员激励机制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激励是指挖掘人的潜力，充分调动人的积极性。在现代公司管理制度中，应该重视对职工的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公司的激励手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种是物质激励，另一种是精神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部门在采取激励措施时还必须注意以下几点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将物质激励和精神激励相结合，采用恰当的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组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不同时期、不同环境条件下，对不同的员工要区别对待，灵活激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措施要公正，要以客观事实为依据，恰如其分地进行激励，对公司的每一个员工都要一视同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五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劳动工资管理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的劳动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劳动分工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劳动协作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额定编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一节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概述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工资福利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员工的劳动报酬分两部分，一部分是直接的金钱报酬，包括工资、奖金、津贴；另一部分是间接的报酬，也就是职工的福利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280" y="404280"/>
            <a:ext cx="820908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复习思考题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力资源管理的主要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人力资源管理应遵循哪些原则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事考核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员工培训的基本原则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员工培训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有哪几种类型？保险公司在采取激励机制时应注意哪些问题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劳动管理的主要内容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力资源管理的概念与任务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的基本任务是根据保险公司发展战略的要求，通过有计划地对人力资源进行合理配置，加强公司员工的教育培训和人力资源的开发，推动整个保险公司各项工作的开展，确保保险公司战略目标的实现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人力资源管理的内容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规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招聘、选择和人事安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结构的合理配置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教育、培训和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工作评价和考核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事业生涯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资福利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力资源管理的原则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时须遵循以下几个原则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协调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任人唯贤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能位相宜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群体合力和互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态适应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四、加强人力资源管理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提高保险公司的劳动效率和经济效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保险公司职工的全面发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有利于建立现代保险公司制度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二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事绩效考核的功能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础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导向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督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人事绩效考核的内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的主要内容有：德、能、勤、绩四个方面，以绩为重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6:08:57Z</dcterms:modified>
  <cp:revision>55</cp:revision>
  <dc:subject/>
  <dc:title>没有幻灯片标题</dc:title>
</cp:coreProperties>
</file>