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CARBRAKE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B4200-5C08-4D0F-B2EC-916402720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A93CA-9EB7-4C8F-B8D9-DDB317896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A1EDF-12C2-4466-A4F8-DE8D291C3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E109B-7E02-4ECA-8F89-9C1D2A0A7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2EF3F-9143-4268-8AE6-47ADA5B17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F1692-3712-4EEE-A207-166E74304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2148E-3316-430B-A7B0-BCA98F4C1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AE99E-E587-43FB-9244-7977FF6E9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87322-5592-4147-B2AB-BDAEB0756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DF353-04EA-405D-8E8F-44BF4EDED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858F2-FC47-44F4-AF4C-72EB9ED8C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AE29C-2F9D-475F-9D2A-18B9EDF44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056EE-E425-410F-9D33-A2AAA7EA5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08B72-2DE8-4ACC-BF16-EF3744096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B17CE-A9E6-435B-AFF0-AE84CF530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3FAB8-31B0-48A0-B275-4AB3DB8F1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9977C-1B81-4A26-BEA0-E43F0D467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86E3C-C498-457C-BBD3-D97AD8D1E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C9DBA-8F58-4813-B96C-69E61E1F1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749BA-175D-4509-8256-AFD975875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B1CDD-F45B-4112-BB2C-BE54A4EF2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4F83D-A27A-450B-8407-7C33C93D3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86494-641F-4505-AF3F-E9FCDB86F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6B4AD-C5BF-4198-94A2-1F5BC5059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57200" y="998640"/>
            <a:ext cx="8153280" cy="1600200"/>
            <a:chOff x="457200" y="998640"/>
            <a:chExt cx="8153280" cy="1600200"/>
          </a:xfrm>
        </p:grpSpPr>
        <p:sp>
          <p:nvSpPr>
            <p:cNvPr id="1" name="Arc 3"/>
            <p:cNvSpPr/>
            <p:nvPr/>
          </p:nvSpPr>
          <p:spPr>
            <a:xfrm>
              <a:off x="5748480" y="998640"/>
              <a:ext cx="2862000" cy="160020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</a:path>
                <a:path stroke="0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5675400" y="1163520"/>
              <a:ext cx="2862000" cy="127008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</a:path>
                <a:path stroke="0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Arc 5"/>
            <p:cNvSpPr/>
            <p:nvPr/>
          </p:nvSpPr>
          <p:spPr>
            <a:xfrm>
              <a:off x="5632560" y="1384200"/>
              <a:ext cx="2860560" cy="82872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</a:path>
                <a:path stroke="0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AutoShape 6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590AD-54C6-40FB-80D6-EF6ACB18ED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457200" y="998640"/>
            <a:ext cx="8153280" cy="1600200"/>
            <a:chOff x="457200" y="998640"/>
            <a:chExt cx="8153280" cy="1600200"/>
          </a:xfrm>
        </p:grpSpPr>
        <p:sp>
          <p:nvSpPr>
            <p:cNvPr id="47" name="Arc 3"/>
            <p:cNvSpPr/>
            <p:nvPr/>
          </p:nvSpPr>
          <p:spPr>
            <a:xfrm>
              <a:off x="5748480" y="998640"/>
              <a:ext cx="2862000" cy="160020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</a:path>
                <a:path stroke="0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Arc 4"/>
            <p:cNvSpPr/>
            <p:nvPr/>
          </p:nvSpPr>
          <p:spPr>
            <a:xfrm>
              <a:off x="5675400" y="1163520"/>
              <a:ext cx="2862000" cy="127008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</a:path>
                <a:path stroke="0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Arc 5"/>
            <p:cNvSpPr/>
            <p:nvPr/>
          </p:nvSpPr>
          <p:spPr>
            <a:xfrm>
              <a:off x="5632560" y="1384200"/>
              <a:ext cx="2860560" cy="82872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</a:path>
                <a:path stroke="0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AutoShape 6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40151-FC73-4095-AFD6-169A7EC73E3D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ARBRAKE.WAV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ARBRAKE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5" descr="http://www.sufep.com/bookspic/978-7-5642-1415-9.F.1415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第二节  保险公司的经营环境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一、保险经营的外部环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(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一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)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自然环境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二）人口环境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三）经济环境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四）政策环境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五）社会环境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六）文化环境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七）市场环境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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二、保险公司经营的内部环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一）劳动者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二）经营技术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三）资金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四）信息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第三节  保险公司的经营原则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一、保险经营的一般原则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一）经济核算原则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二）随行就市原则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三）薄利多销原则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二、保险公司经营的特殊原则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一）风险大量原则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二）风险选择原则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三）风险分散原则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第四节   保险公司的经营目标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一、保险经营理念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市场理念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竞争理念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效益理念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信息理念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二、保险公司经营目标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一）长期目标、中期目标和近期目标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长期目标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中期目标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近期目标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(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二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)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社会贡献目标、公司利益目标和个人利益目标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社会贡献目标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公司利益目标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个人利益目标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(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三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)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财务稳定性目标、持续发展目标和盈利目标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财务稳定性目标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持续发展目标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盈利目标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cc"/>
                </a:solidFill>
                <a:latin typeface="Times New Roman"/>
              </a:rPr>
              <a:t>第一章  保险公司经营导论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三个目标之间的关系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 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作为保险公司的经营管理部门，应当将财务稳定性目标、持续发展目标、盈利目标有机地结合起来，正确处理好三者的关系，在强调保证财务稳定性目标的基础上，对发展速度目标和盈利目标加以适当的平衡，否则利润和发展就成为无源之水、无本之木。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复习思考题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 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名词解释：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理论费率  实际费率   监管费率  纯费率  附加费率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 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简述寿险费率厘定的要素。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 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分析保险公司经营的内部环境和外部环境。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. 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简述保险经营的特殊原则。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5. 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从保险公司财务管理的角度分析保险经营的目标以及相互关系。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cc"/>
                </a:solidFill>
                <a:latin typeface="Times New Roman"/>
              </a:rPr>
              <a:t>第一节  保险经营的商品属性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一、保险商品的使用价值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社会稳定器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经济助动器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 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社会管理器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二、保险商品的价值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用保险费形式表示，保险商品的价值为纯保费（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R+L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）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+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附加保费（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C+V+M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）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三、保险商品的特性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商品是一种无形的商品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商品是一种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非渴求商品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商品的消费是一种隐型消费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四、保险商品的价格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一）保险费率的种类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理论费率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实际费率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监管费率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二）财产保险费率的厘定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判断法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分类法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增减法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财产保险费率多采用分类法和增减法来厘定。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三）人寿保险费率厘定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人寿保险费率厘定要考虑以下三个基本要素：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死亡率或生存率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利息率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营业费用率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人寿保险费率厘定要考虑的其他要素：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(1)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退保率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(2)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分红率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）残废率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）保单中嵌入的各种选择权被保单持有人行使的概率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8T00:24:50Z</dcterms:created>
  <dc:creator>aa</dc:creator>
  <dc:description/>
  <dc:language>en-US</dc:language>
  <cp:lastModifiedBy>苏菲的小猫</cp:lastModifiedBy>
  <dcterms:modified xsi:type="dcterms:W3CDTF">2020-05-25T05:09:04Z</dcterms:modified>
  <cp:revision>21</cp:revision>
  <dc:subject/>
  <dc:title>没有幻灯片标题</dc:title>
</cp:coreProperties>
</file>