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A46D-DD1F-4105-AD09-F7DF6DA3A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D53E-2FC1-4784-9437-C0B40BEC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CFB9-3D3D-4140-80C5-A96CAC1D1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CB00-CD1F-4191-8762-A062C854D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B4C6-D47D-45C5-BB33-F1962F28C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73C4-5F0C-440D-B4C8-48278541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62F1-7A1C-47C1-829C-577BDB79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ADE0-989B-42A0-B594-7D5FB582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4C80-FE11-4D0D-BD9B-FC546899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011A-FC33-4B09-B81B-CA868F35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C153-0D11-4799-ABFD-95665836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8329-14B6-47B9-81A6-5991D60A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5C272-FFBE-434C-8321-4F4A3D6D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161B-C8FB-4885-AF6C-82D9D72B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ACC57-5074-4740-9041-CF1A0D48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0FADD-B3A3-4A9E-A1DF-5F5ACA352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7231-0FE2-477C-AE2A-DCAB78251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121D-82EC-470E-986A-CBB1F9D4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44BC-B815-4D5B-9314-88C4AC85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BDD8-C0DF-4053-9ECB-020844C2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B8E4-E369-4B84-B345-98F46A61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1842-6610-496A-B30E-F3C6067E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D8D1-878F-4A2C-985C-97ECC029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3A61-3D01-46F8-B0B5-F0198C52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8D9A-86FE-4514-B8E4-80E65C45F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BEFF-7ACC-4A23-9A48-244E8FD3A46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第四章  保险承保管理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个人健康保险业务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龄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健康状况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逆选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道德风险因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性别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工作经历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生活习惯和生活方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个人意外伤害保险业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危险爱好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身体健康状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金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四、团体保险业务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新业务的核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团体的资格、团体的规模、团体成员的投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资格、团体的业务性质、参保率、团体成员的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动率、保险金额的确定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续保业务的核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团体的理赔经验、参保率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五、财产保险业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性能或构造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用途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环境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重要防护部位及防护措施状况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检验有无正处于危险状态中的财产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检查各项安全管理制度的制定和执行情况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四节  保险合同的保全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全的内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保全的意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三、保全服务的内容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单保全服务的基本作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附加价值服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咨询与投诉服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核保  续保  道德风险  心理风险保全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获取承保信息的主要渠道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核保中事前选择和事后选择的内容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道德风险 ？如何控制？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心理风险？如何控制？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个人寿险和团体寿险的核保要素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财产保险的核保要素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单保全服务的基本作业的内容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9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一节  保险承保的基本程序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制定承保方针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获取和评价承保信息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主要渠道：投保单、中介人及其经营业绩、体检报告、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地区销售经理、消费者调查报告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审查核保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作出承保决定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五、单证管理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六、续保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二节  承保选择与承保控制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核保的概念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核保是指保险公司对可保风险进行评判与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分类，进而决定是否承保、以什么样的条件承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的分析过程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核保的内容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核保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事前核保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投保人或被保险人的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保险标的及其利益的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事后核保选择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核保控制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控制道德风险的主要措施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控制保险金额，避免高额保险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控制赔偿程度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控制心理风险的主要措施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定免赔额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定共同保险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3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单中订入保证条款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4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续保优惠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5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其他优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三节  核保要素分析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个人寿险业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龄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同健康有关的风险因素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体格、 既往症、现症、家庭病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同健康无关的风险因素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业、习惯或嗜好、道德风险因素、财务状况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31:05Z</dcterms:modified>
  <cp:revision>22</cp:revision>
  <dc:subject/>
  <dc:title>没有幻灯片标题</dc:title>
</cp:coreProperties>
</file>